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87D4-9DA2-4E7A-B534-E5AAB6485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996E-F908-4BEF-9EA5-7B80D28C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DDA1-B420-44F7-8549-BAA0B489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AA8F-BE28-439B-862B-F6BBF103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165C-5BE1-4E15-BEFB-7AC885FA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E388-2D93-41DF-96DA-73B0DD3E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03FD-09E0-4417-B670-DC0C54A1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0E22-E8E7-44DF-BAB8-276759CB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CBE1-D3DF-4C5A-83E4-EA5996FE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3CEC-1A68-4F0C-A8E6-E1CDB77F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BCC0-26CE-47D0-A920-3AB98B86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7680-068A-4896-B854-621C8806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A6D4-7085-4F30-AF49-49B1140E8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ll 2009 Test III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Chapters 1 to 1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Closed Boo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Complete the table below for the verb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ABE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Ō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 HABĒ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 have, hol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BE</a:t>
            </a:r>
            <a:r>
              <a:rPr b="0" lang="en" sz="3200" spc="-1" strike="noStrike">
                <a:solidFill>
                  <a:srgbClr val="ff0000"/>
                </a:solidFill>
                <a:latin typeface="Arial"/>
              </a:rPr>
              <a:t>Ō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I 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e hold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BĒ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BĒ</a:t>
            </a:r>
            <a:r>
              <a:rPr b="0" lang="en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You 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BĒ</a:t>
            </a:r>
            <a:r>
              <a:rPr b="0" lang="en" sz="3200" spc="-1" strike="noStrike">
                <a:solidFill>
                  <a:srgbClr val="ff0000"/>
                </a:solidFill>
                <a:latin typeface="Arial"/>
              </a:rPr>
              <a:t>TIS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You all 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e, she or it holds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B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For each phrase below transl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os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English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D PORTAS   __________________________ the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, to, to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TE BELLUM  ________________________the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RA GRAECOS _____________________the Gr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ai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 EQUUM _____________________________the ho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OST MORTEM _________________________d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PE RIVUM __________________________the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ar, next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For each phrase below transl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os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English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 (or EX) RAEDA __________________________the carri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, out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 AGRIS _________________________________the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 BONO ________________________________the g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UB ARBORIBUS __________________________the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der, ben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reative writing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hoose the ending.  Use at least 10 words in correct Latin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UNC ANCILLA IN VIA SPECTAT.  MARCUS RAEDAM ASCENDIT ET CORNELII DISCEDENT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QUIS RĪDE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QUIS LACRIMA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QUIS CL</a:t>
            </a:r>
            <a:r>
              <a:rPr b="1" lang="en" sz="32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T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ŪR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Give the English pronoun equivalent to each of the following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t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sonal e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90720" y="1523880"/>
            <a:ext cx="7162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, she,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en" sz="2800" spc="-1" strike="noStrike">
                <a:solidFill>
                  <a:srgbClr val="ff0000"/>
                </a:solidFill>
                <a:latin typeface="Arial"/>
              </a:rPr>
              <a:t>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ranslate each sentence in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t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he is a frightened slave-gir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c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terr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cilla perterrita 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ranslate each sentence in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t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e is not a Roman sl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 est servus Roman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ranslate each sentence in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t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 am a good stud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na (Bon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ipula (Discipul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 bona discip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ranslate each sentence in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t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You all are good student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ipu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ni discipuli est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ranslate each sentence in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t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e do not like wolv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a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p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pos non amam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rite the correct word in the blank and explain your choice using complete sentence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ENĒĀS ______________ PORT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NEX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SENEM?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T _____________   EX URBE DŪCIT.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UER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PUERU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E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direct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aeneas-flight" descr="???"/>
          <p:cNvPicPr/>
          <p:nvPr/>
        </p:nvPicPr>
        <p:blipFill>
          <a:blip r:embed="rId1"/>
          <a:stretch/>
        </p:blipFill>
        <p:spPr>
          <a:xfrm>
            <a:off x="5791320" y="3733920"/>
            <a:ext cx="251460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4. What is th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infinitiv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i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RR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Ā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T HŪM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U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R</a:t>
            </a: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ĀRE</a:t>
            </a:r>
            <a:r>
              <a:rPr b="0" lang="en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2819160"/>
            <a:ext cx="83818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5. When should you 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N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stead of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T is plural, so you should use in when there are two or more people shou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01:11:08Z</dcterms:created>
  <dc:creator> Bellos Nisan</dc:creator>
  <dc:description/>
  <dc:language>en-US</dc:language>
  <cp:lastModifiedBy> Bellos Nisan</cp:lastModifiedBy>
  <dcterms:modified xsi:type="dcterms:W3CDTF">2009-11-24T01:55:39Z</dcterms:modified>
  <cp:revision>3</cp:revision>
  <dc:subject/>
  <dc:title>1. Give the English pronoun equivalent to each of the following Latin personal endings:</dc:title>
</cp:coreProperties>
</file>